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3D55-CC83-40DE-96A2-526B7B00AF0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D668-EEE6-45C2-9430-3FB96A91F7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ικείμενο μελέτης της ορθολογικής επιλογής είναι κατά κανόνα το άτομο. Για την ακρίβεια, το σημείο αφετηρίας είναι ενίοτε ο μεθοδολογικός ατομικισμός:</a:t>
            </a:r>
            <a:r>
              <a:rPr b="0" lang="en-US" sz="1200" spc="-1" strike="noStrike">
                <a:solidFill>
                  <a:srgbClr val="000000"/>
                </a:solidFill>
                <a:latin typeface="Arial"/>
              </a:rPr>
              <a:t> </a:t>
            </a:r>
            <a:r>
              <a:rPr b="0" lang="el-GR" sz="1200" spc="-1" strike="noStrike">
                <a:solidFill>
                  <a:srgbClr val="000000"/>
                </a:solidFill>
                <a:latin typeface="Arial"/>
              </a:rPr>
              <a:t>η αρχή ότι οι ερμηνείες στην πολιτική επιστήμη πρέπει να αναζητώνται στις προτιμήσεις και τη συμπεριφορά των ατόμ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ικείμενο μελέτης της ορθολογικής επιλογής είναι κατά κανόνα το άτομο. Για την ακρίβεια, το σημείο αφετηρίας είναι ενίοτε ο μεθοδολογικός ατομικισμός: η αρχή ότι οι ερμηνείες στην πολιτική επιστήμη πρέπει να αναζητώνται στις προτιμήσεις και τη συμπεριφορά των ατόμων.</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32E9-D8C9-40D8-8B98-0681FE10CE0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αντική συμβολή της προσέγγισης της ορθολογικής επιλογής έγκειται στην ανάδειξη των προβλημάτων συλλογικής δρά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βλήματα συλλογικής δράσης (collective action problems) ανακύπτουν όταν η ορθολογική συμπεριφορά σε ατομικό επίπεδο παράγει αποτέλεσμα το οποίο υπολείπεται του καλύτερου δυνατ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όβλημα προκύπτει συνήθως όταν οι άνθρωποι θέλουν να εκμεταλλευτούν τις προσπάθειες άλλων στην παροχή δημόσιων αγαθών (public goods) - των αγαθών δηλαδή που είναι αδύνατον να τα απολαύσουν μόνον όσοι συμβάλλουν στην εξασφάλισή τους. Παραδείγματα δημόσιων αγαθών είναι οι ανδριάντες σε δημόσιους χώρους, η εθνική άμυνα και ο καθαρός αέρ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9D7E-1FE0-4E54-9C25-A666426C16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ορροπία (equilibrium) είναι μια κατάσταση ηρεμίας. Πολιτική ισορροπία υπάρχει όταν κανένας από τους σημαντικούς δρώντες δεν πιστεύει ότι μπορεί να αποσπάσει αξιόλογα οφέλη μεταβάλλοντας την τρέχουσα θέση του. Για παράδειγμα, ένα εκλογικό σύστημα αποτελεί σημείο ισορροπίας εφόσον κανένα μεγάλο κόμμα δεν προτιμά κάποια εναλλακτικ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71D0-8C8D-4BF0-A0DC-7E99CFD581E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οκ (shocks) είναι απροσδόκητα γεγονότα, που προκύπτουν συχνά έξω από το σύστημα και διαταράσσουν προσωρινά ή μόνιμα το σημείο ισορ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8EE2-A3CE-4B57-90FE-9E7E3E68EC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ρμηνευτική προσέγγιση (interpretive approach) υποθέτει ότι: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 οι δομές της ανθρώπινης κοινωνίας καθορίζονται κυρίως από κοινές ιδέες και όχι από υλικές δυνάμεις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 οι ταυτότητες και τα συμφέροντα των δρώντων που κινούνται προς την επίτευξη κάποιου σκοπού διαμορφώνονται από αυτές τις κοινές ιδέες και δεν προκύπτουν εκ φύσεω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10D7-44BC-452B-9EE5-9FA7250FF1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γκριση των κυβερνητικών θεσμών αποτελεί μία από τις βασικές δραστηριότητες της πολιτικής επιστήμης εν γένει και της συγκριτικής πολιτικής ειδικότερ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ήρξε ο θεμέλιος λίθος του επιστημονικού πεδίου της συγκριτικής πολιτικής και ως εκ τούτου αποτέλεσε την αφετηρία με βάση την οποία εξελίχθηκαν άλλες προσεγγίσεις και με την οποία μπορούν να συγκριθούν. Η κατανόηση των θεσμών παραμένει μέρος του οπλοστασίου των περισσότερων πολιτικών επιστημόνω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CDC6-B997-46F9-BB81-AFC20BB8767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σμός (institution) είναι ένας εδραιωμένος οργανισμός δημόσιου, συνήθως, χαρακτήρα, του οποίου τα μέλη αλληλεπιδρούν με βάση τους συγκεκριμένους ρόλους που επιτελούν στο εσωτερικό τ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ελέτη της πολιτικής, η βασική έννοια του θεσμού είναι αυτή του κυβερνητικού οργάνου που προβλέπεται από το σύνταγ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6C05-C5C9-45E0-8AB8-FD9E0AAB475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λογική του ενδεδειγμένου (logic of appropriateness) αναφέρεται στις ενέργειες που κάνουν τα μέλη ενός θεσμού, για να συμμορφωθούν με τους κανόνες του συγκεκριμένου θεσμού. Για παράδειγμα, ο αρχηγός ενός κράτους επιτελεί τα εθιμοτυπικά του καθήκοντα, διότι αυτή είναι μια από τις επίσημες υποχρεώσεις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24A6-4553-4FF7-AABE-71FAEC7C5F7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η λογική των συνεπειών (logic of consequences) υποδηλώνει τις συμπεριφορές που έχουν ως στόχο την επίτευξη ατομικού σκοπού, όπως η προσωπική ανέλιξη ή η επανεκλογ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AE2F-290B-4679-84B4-B620C938141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εσμοποίηση (institutionalization) ορίζεται από τον Huntington (1968) ως η διαδικασία μέσω της οποίας οι οργανισμοί εδραιώνονται και αποκτούν κύρος στο πέρασμα του χρόνου. Ένας οργανισμός, για παράδειγμα ένα κοινοβούλιο, θεωρείται θεσμοποιημένος εάν είναι διακριτός από το περιβάλλον του, διαθέτει περίπλοκη εσωτερική δομή και ακολουθεί σαφείς κανόνες λειτουρ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06D2-26DA-4738-8C5D-61AD868B6F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εκαετία του '60, η έμφαση στον κλάδο της πολιτικής επιστήμης, ιδίως στις ΗΠΑ, απομακρύνθηκε από το θεσμικό επίπεδο προς την ατομική συμπεριφορ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εντρικός πυλώνας των συμπεριφοριστών (behaviouralist) ήταν ότι η πηγή όλων είναι ο άνθρωπος και όχι οι θεσμοί. Αυτή η νέα προσέγγιση μας καλούσε να μελετήσουμε τις πράξεις των ανθρώπων αντί για τα συνταγματικά κείμενα και τα οργανογράμματα, τα οποία εξετάζουν και ενίοτε εξυμνούν οι οπαδοί της θεσμικής θεωρ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5F26-1617-42EC-9042-E52C98EC821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λεξικό ορίζει τη δομή ως τη διάρθρωση ενός συνόλου. Οι οπαδοί της δομικής προσέγγισης στην πολιτική επιστήμη ακολουθούν αυτό τον ορισμό, εστιάζοντας στις σχέσεις ανάμεσα σε ισχυρές κοινωνικές ομάδες, όπως η γραφειοκρατία, τα πολιτικά κόμματα, οι κοινωνικές τάξεις, οι Εκκλησίες και ο στρατό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ολιτική επιστήμη, η δομική προσέγγιση (structural approach) δίνει έμφαση στις αντικειμενικές σχέσεις ανάμεσα στις κοινωνικές ομάδες, περιλαμβανομένων των κοινωνικών τάξεων και του κράτους. Τα διαφορετικά συμφέροντα και οι θέσεις αυτών των ηγετικών ομάδων διαμορφώνουν τον γενικό σχηματισμό της εξουσίας και παρέχουν τη δυναμική της πολιτικής μεταβολή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0979-37D5-4FE9-B63F-66D63442036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λυση της ορθολογικής επιλογής μάς ξαναγυρίζει στο επίπεδο των ατόμων. Αυτή τη φορά, όμως, πρόκειται για το αφηρημένο, υστερόβουλο είδος που συναντάμε στην οικονομική επιστήμ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αυτή δεν θεωρεί τις υπόλοιπες ως ανορθολογικές· το χαρακτηριστικό γνώρισμά της είναι ότι βλέπει την πολιτική ως το αποτέλεσμα της στρατηγικής αλληλεπίδρασης των ατόμων, καθώς όλοι οι δρώντες επιδιώκουν να μεγιστοποιήσουν την επίτευξη των δικών τους στόχω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8F796-79D5-4227-BFA9-ABD469D88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C6182-A212-480E-8084-C6C47CE62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0BE7B-7E56-4C85-BCF2-AD44EDCAD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8C5AF-0A7E-424A-9D2F-C0D202D6B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21435-975B-4062-AA84-79AF5BC1F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ABDF1-2133-4B20-9B82-775B70746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A083B-2370-4EE1-815B-A501C727E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DB268-97CE-4487-A2F8-44FFD7C01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B3EDF-6959-425E-86E7-7D71A0DFF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AE87D-8ABA-45B6-8F3D-20FAFE040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FF919-38C7-4E20-86C9-B2519BBDC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290A-429B-4986-BA62-2318B1578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A60F5-B94C-4B37-B97A-AF24BDE34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0FAD5-03BA-42C8-8394-E332F5179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9A9F2-943A-4328-BB16-7BB39044D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A75EE-A397-4DA9-B7C6-16D37ADEE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4D8C8-18AB-49EE-95DE-8A2DDFBAC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89C8-E49B-4F56-89BB-B0B3BC524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06E83-0F7A-4B23-B488-B7026CDB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AC638-C9F6-47C5-A05C-80989157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273D-2AB5-46A7-9100-5CD73147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1614-9F55-4A3E-A796-6CDEE5A5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BCD7-C493-4823-B823-B605BA6B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2224-42C1-4688-BA77-D1512FC99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CA36-0EDC-44ED-8E2A-02DEEA11D69F}"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556A-B355-4BB2-8E1B-33F125CF72F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2</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ωρητικές προσεγγί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θοδολογικός ατομικισμός</a:t>
            </a:r>
            <a:r>
              <a:rPr b="0" lang="en-US" sz="2800" spc="-1" strike="noStrike">
                <a:solidFill>
                  <a:srgbClr val="000000"/>
                </a:solidFill>
                <a:latin typeface="Arial"/>
              </a:rPr>
              <a:t>:</a:t>
            </a:r>
            <a:r>
              <a:rPr b="0" lang="el-GR" sz="2800" spc="-1" strike="noStrike">
                <a:solidFill>
                  <a:srgbClr val="000000"/>
                </a:solidFill>
                <a:latin typeface="Arial"/>
              </a:rPr>
              <a:t> η αρχή ότι οι ερμηνείες στην πολιτική επιστήμη πρέπει να αναζητώνται στις προτιμήσεις και τη συμπεριφορά των ατόμ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βλήματα συλλογικής δράσης (collective action problems) ανακύπτουν όταν η ορθολογική συμπεριφορά σε ατομικό επίπεδο παράγει αποτέλεσμα το οποίο υπολείπεται του καλύτερου δυνατ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ορροπία (equilibrium) είναι μια κατάσταση ηρεμίας. Πολιτική ισορροπία υπάρχει όταν κανένας από τους σημαντικούς δρώντες δεν πιστεύει ότι μπορεί να αποσπάσει αξιόλογα οφέλη μεταβάλλοντας την τρέχουσα θέση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σοκ (shocks) (απροσδόκητα γεγονότα, που προκύπτουν συχνά έξω από το σύστημα) διαταράσσουν προσωρινά ή μόνιμα το σημείο ισορροπί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ερμηνευτική προσέγγιση</a:t>
            </a:r>
            <a:endParaRPr b="0" lang="en-US" sz="42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ρμηνευτική προσέγγιση (interpretive approach) υποθέτει ότι: </a:t>
            </a:r>
            <a:endParaRPr b="0" lang="en-US" sz="28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1) οι δομές της ανθρώπινης κοινωνίας καθορίζονται κυρίως από κοινές ιδέες και όχι από υλικές δυνάμεις </a:t>
            </a:r>
            <a:endParaRPr b="0" lang="en-US" sz="2600" spc="-1" strike="noStrike">
              <a:solidFill>
                <a:srgbClr val="000000"/>
              </a:solidFill>
              <a:latin typeface="Arial"/>
            </a:endParaRPr>
          </a:p>
          <a:p>
            <a:pPr lvl="1" marL="743040" indent="-285840">
              <a:lnSpc>
                <a:spcPct val="90000"/>
              </a:lnSpc>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2) οι ταυτότητες και τα συμφέροντα των δρώντων που κινούνται προς την επίτευξη κάποιου σκοπού διαμορφώνονται από αυτές τις κοινές ιδέες και δεν προκύπτουν εκ φύσεως </a:t>
            </a:r>
            <a:endParaRPr b="0" lang="en-US" sz="2600" spc="-1" strike="noStrike">
              <a:solidFill>
                <a:srgbClr val="000000"/>
              </a:solidFill>
              <a:latin typeface="Arial"/>
            </a:endParaRPr>
          </a:p>
          <a:p>
            <a:pPr lvl="1" marL="74304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Vendt, 1999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θεσμική προσέγγιση υπήρξε ο θεμέλιος λίθος του επιστημονικού πεδίου της συγκριτικής πολιτικής και ως εκ τούτου αποτέλεσε την αφετηρία με βάση την οποία εξελίχθηκαν άλλες προσεγγίσεις και με την οποία μπορούν να συγκριθ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εσμός (institution) είναι ένας εδραιωμένος οργανισμός δημόσιου, συνήθως, χαρακτήρα, του οποίου τα μέλη αλληλεπιδρούν με βάση τους συγκεκριμένους ρόλους που επιτελούν στο εσωτερικό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ογική του ενδεδειγμένου (logic of appropriateness) αναφέρεται στις ενέργειες που κάνουν τα μέλη ενός θεσμού, για να συμμορφωθούν με τους κανόνες του συγκεκριμένου θεσμ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λογική των συνεπειών (logic of consequences) υποδηλώνει τις συμπεριφορές που έχουν ως στόχο την επίτευξη ατομικού σκοπού, όπως η προσωπική ανέλιξη ή η επανεκλογ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θεσμική προσέγγιση</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θεσμοποίηση (institutionalization) ορίζεται ως η διαδικασία μέσω της οποίας οι οργανισμοί εδραιώνονται και αποκτούν κύρος στο πέρασμα του χρόν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συμπεριφορική προσέγγιση</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εντρικός πυλώνας των συμπεριφοριστών (behaviouralist) ήταν ότι η πηγή όλων είναι ο άνθρωπος και όχι οι θεσμοί. Αυτή η νέα προσέγγιση μας καλούσε να μελετήσουμε τις πράξεις των ανθρώπων αντί για τα συνταγματικά κείμενα και τα οργανογρά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δομική προσέγγιση</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ην πολιτική επιστήμη, η δομική προσέγγιση (structural approach) δίνει έμφαση στις αντικειμενικές σχέσεις ανάμεσα στις κοινωνικές ομάδες, περιλαμβανομένων των κοινωνικών τάξεων και του κράτους. Τα διαφορετικά συμφέροντα και οι θέσεις αυτών των ηγετικών ομάδων διαμορφώνουν τον γενικό σχηματισμό της εξουσίας και παρέχουν τη δυναμική της πολιτικής μεταβολή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προσέγγιση της ορθολογικής επιλογής</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αρακτηριστικό γνώρισμα της προσέγγισης της ορθολογικής επιλογής είναι ότι βλέπει την πολιτική ως το αποτέλεσμα της στρατηγικής αλληλεπίδρασης των ατόμων, καθώς όλοι οι δρώντες επιδιώκουν να μεγιστοποιήσουν την επίτευξη των δικών τους στόχ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5:53:19Z</dcterms:created>
  <dc:creator>pc</dc:creator>
  <dc:description/>
  <dc:language>en-US</dc:language>
  <cp:lastModifiedBy>EPIMELEIA</cp:lastModifiedBy>
  <dcterms:modified xsi:type="dcterms:W3CDTF">2013-09-23T08:26:2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